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B00-C12B-4A99-BCB6-8D526973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8CD-AC1D-42E4-B85D-E374A80C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D27-998B-4A48-B407-881BC7B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439-6D46-44C3-A251-A40A9D59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0C18-7427-4BFA-BB1A-176868E6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D69-9007-494F-90B1-4C89933E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B0DB-FE6F-4955-9E98-D8132F9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8652-AC25-442A-9060-1CF77A4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2DF7-EDB2-4786-99FE-E0EB09A7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86E-2481-4C4A-BA70-DEE289F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B5C-C4DB-4231-84B8-82DDCF7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B36-42AF-4B26-BD5A-A92C9EA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27E-CAE7-4412-B3DF-E21665C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6E9-CEF7-461A-AE67-F8C8F96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054-D55C-4414-9939-F82DBF3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756C-B527-4926-B88D-2EE8A249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AF3-3AE9-4A96-9829-44C60022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B85-489C-4C5F-BA43-5BA1D807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F03-57F4-4C30-B5C0-8FE9CB2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B2E-596E-4851-A501-6A34A875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E13-2ACB-4773-9B9A-0AAF89A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047-0336-40FA-8954-12586B8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FBE-EAF4-40B2-B11E-C1603AC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5D4-169C-4A54-B8C2-54732A5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D34A-6F14-4963-9ECB-4FBD4B58B6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3F6-2B22-4F69-8247-8E60F4FD0E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ANd9GcS1O2diRgvGEmz5LMCQM3AX6MJRjknzdjxGMx0dnp13PNYGxujn"/>
          <p:cNvPicPr/>
          <p:nvPr/>
        </p:nvPicPr>
        <p:blipFill>
          <a:blip r:embed="rId1"/>
          <a:stretch/>
        </p:blipFill>
        <p:spPr>
          <a:xfrm>
            <a:off x="755640" y="234936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RXYtkENJ6Me-qlKTnqogVtO3lXpjTEhTtZU-OGpspzMB-zjZkVaQ"/>
          <p:cNvPicPr/>
          <p:nvPr/>
        </p:nvPicPr>
        <p:blipFill>
          <a:blip r:embed="rId2"/>
          <a:stretch/>
        </p:blipFill>
        <p:spPr>
          <a:xfrm>
            <a:off x="3486240" y="2376360"/>
            <a:ext cx="2171520" cy="210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TfATqkmEhKfHICT6VK5SiTsopPIcCMBFgLVCrfbY4hRsrB0TRZIw"/>
          <p:cNvPicPr/>
          <p:nvPr/>
        </p:nvPicPr>
        <p:blipFill>
          <a:blip r:embed="rId3"/>
          <a:stretch/>
        </p:blipFill>
        <p:spPr>
          <a:xfrm>
            <a:off x="5867280" y="2349360"/>
            <a:ext cx="2152800" cy="21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l uso de la </a:t>
            </a: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 usa 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e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os adjetivos terminados en 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oso y osa; aso, eso, uso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generoso, hermoso, temerosa y graciosa; escaso, travieso, perezoso y confus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0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las palabras terminadas en sión que sean derivadas de una palabra que termina en so o sor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jemplos: recesión, que proviene de la palabra receso, o ascensión, de ascens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la mayoría de los sustantivos terminados en eso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jemplos: peso, hueso, ileso, etcétera. 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Son excepción  las palabras:  aderezo, pescuezo, cerezo y tropiezo.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559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os adjetivos que forman su grado superlativo con las terminaciones ísimo e ísima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buenísimo (extremadamente bueno) o bellísima, (extremadamente bella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as palabras derivadas que terminan en sivo y sible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excesivo y comprensib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Usamos Z cuando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41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- Los adjetivos terminados en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a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y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o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, llevan z al final.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capaz, atro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- La mayor parte de las palabras terminadas en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anza.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bienaventuranza, lanza, chanza. Excepciones más notables son gansa y cansa (del verbo cansa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- La terminación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azgo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.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oviazgo, hallaz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4.- Las palabras que son aumentativos o expresan la idea de golpe, si terminan en </a:t>
            </a:r>
            <a:r>
              <a:rPr b="1" i="1" lang="es-ES" sz="3200" spc="-1" strike="noStrike">
                <a:solidFill>
                  <a:srgbClr val="ff0000"/>
                </a:solidFill>
                <a:latin typeface="Comic Sans MS"/>
              </a:rPr>
              <a:t>azo, aza.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 Ejemplos: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ablazo, manaz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5.- Las terminaciones </a:t>
            </a:r>
            <a:r>
              <a:rPr b="1" i="1" lang="es-ES" sz="3200" spc="-1" strike="noStrike">
                <a:solidFill>
                  <a:srgbClr val="ff0000"/>
                </a:solidFill>
                <a:latin typeface="Comic Sans MS"/>
              </a:rPr>
              <a:t>ez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y 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za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de los sustantivos abstractos, que indica que es o tiene lo que señala la raíz. Ejemplos: honradez de honrado; naturaleza de natur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3:12:17Z</dcterms:created>
  <dc:creator>lucero</dc:creator>
  <dc:description/>
  <dc:language>en-US</dc:language>
  <cp:lastModifiedBy>LPS</cp:lastModifiedBy>
  <dcterms:modified xsi:type="dcterms:W3CDTF">2017-05-02T17:06:55Z</dcterms:modified>
  <cp:revision>5</cp:revision>
  <dc:subject/>
  <dc:title>Diapositiva 1</dc:title>
</cp:coreProperties>
</file>